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D702-B6FF-43DF-B068-ABA93A555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9605-7697-4115-817A-5DAE3AFD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5ECF-74D6-4A36-BA55-7E23D4199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D445-0F03-4AE7-B1AD-DA885738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911B-97A4-45D5-A79A-95634563B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E62C-08BE-4E73-B58C-F34FFBCA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92F7-2E05-4AA9-9F45-1B276C81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1301-2DEB-4E4D-A327-04E19483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487B3-07C8-4500-96A9-AD6D6CA3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12CD-10B2-4A94-B307-56C6AF66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A5F2-8817-4050-8C4A-75CEF104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656E-5125-4E81-82AD-E7583838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E57C-1A1E-4138-8E00-90CBDB6C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0C0C-ED1C-43EA-A994-73596C09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7252-94D3-4EFF-9B93-9F6A60BD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F323-8DF8-4019-87A6-4537FA2CE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B725-21C1-4618-95B0-BA190779F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A2CF-926E-4DED-9340-57F8C4B8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016A-7539-401D-B0AD-DD01CAB2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5097-A602-4FE8-B786-5C6FD1E7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2C78-9E9A-4C45-B427-33BFA95D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F233-2C66-458F-827F-469DAB0B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D324-F5C1-4EAA-AC7E-58784B4F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03F7-80D5-4D6E-A759-7D4A7435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3D8B-B36C-49C0-B6A5-ED5672F6E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D50E-C061-4086-8347-140F11278FC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二章   保险市场管理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二、保险公司的组织结构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国有独资保险公司的组织结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董事会、监事会和经理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保险股份有限公司的组织结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股东大会、董事会、监事会和经理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三、保险公司的主要职能部门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如市场营销部、精算部 、承保部、服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务部、理赔部、投资部、财务部等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三节  保险市场供需分析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保险市场的供给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市场的供给是指在一定价格（保险费率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水平上，保险市场上各家保险公司愿意并且能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够提供的保险商品的数量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影响因素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费率、偿付能力、保险技术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市场的规范程度、政府的监管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保险市场的需求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市场的需求是指在一定的保险费率水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上，保险消费者从保险市场上愿意并有能力购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保险商品数量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影响因素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风险状况、保险费率、国内生产总值和消费者的货币收入、互补商品与替代商品价格、人口状况、文化传统、经济和法律制度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保险市场的供求平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市场供求平衡，是指在一定保险费率水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平下，保险供给恰好等于保险需求的状态，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供给与需求达到均衡点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四节  保险市场机制的运行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价值规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价值规律是商品生产和商品交换的基本经济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律，它的主要内容是：商品的价值量是由生产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商品的社会必要劳动时间决定的，在市场上，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品按照价值量进行等价交换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供求规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供求规律表现为供给与需求之间的关系，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过对供需双方力量的调节达到市场均衡，从而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定市场的均衡价格，即供求状况决定商品的价格。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三、竞争规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竞争是由商品内在的使用价值和价值的矛盾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定的。但是保险中的竞争也受到一定的限制，主要是非价格竞争，如保险产品竞争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、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服务竞争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第一节   保险市场的特点与构成要素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五节  保险市场的监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 、保险监管的必要性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经营的公共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合同的特殊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技术的复杂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交易过程的特殊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 、保险监管的目标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证保险公司的偿付能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维护保险市场的正常秩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证保险合同的公平和公正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防止保险欺诈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保险监管的形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告监管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范监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实体监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四、保险监管体系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监管法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监管机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行业协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信用评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五、保险监管内容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保险市场行为的监督管理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保险机构的监督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保险业务的监督管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财务的监督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公司治理及内控监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六、保险监管的方法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现场检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非现场检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国营保险  保险股份有限公司   相互保险公司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专业自保公司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国有独资保险公司的特点和组织结构。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股份制保险公司和相互保险公司的特点。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析影响保险供给和需求的主要因素以及保险市场机制的特殊作用。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监管的必要性和目标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列举保险监管的主要内容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一、保险市场的特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市场的对象与风险直接相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市场是一种特殊的“期货”交易市场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保险市场是非即时清洁市场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二、保险市场的构成要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市场的主体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市场的客体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第二节  保险市场的组织形式与组织结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一、保险市场的组织形式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国营保险组织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国营保险组织是由国家或政府投资设立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保险经营组织，如国有独资保险公司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私营保险组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私营保险组织是指由私人投资设立的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险经营组织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股份有限公司和相互保险公司是两种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型的私营保险组织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合作保险组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合作社是由一些具有相同保险需求的人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组织起来、共同经营的相互保险组织。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相互保险社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合作社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专业自保组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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专业自保组织是由某一行业或公司为本公司或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本系统提供保险保障的组织形式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。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五）个人保险组织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人保险组织是以自然人的名义承保风险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务的一种组织形式。迄今为止，英国的劳合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是当今世界唯一的一家个人保险组织。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12:02Z</dcterms:modified>
  <cp:revision>24</cp:revision>
  <dc:subject/>
  <dc:title>没有幻灯片标题</dc:title>
</cp:coreProperties>
</file>